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8E57-F420-4C6E-9EA3-B63CF1A4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C3F1-164C-45A4-AF51-1E1F0CC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FF85-69DD-4F7F-A38A-37E3D35D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378F-071B-4C27-80C4-7AB4263B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BE05-95B2-4F1C-96AA-84223BB4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17EE-AD3E-4064-BBC1-08C5A28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E161-31E2-4428-947C-312709B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E51-33A9-463E-93F0-7C259B9A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911-66AA-40A4-A038-7096170E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9F46-B650-4884-A183-969A9D3F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32A-E01A-4BF9-A060-F99F6DE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5DEF-4CE0-4860-A1D0-01CFD7BC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D5DF-CF7B-4786-973E-743B53A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063-2F39-43E6-9263-427D887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6DA-17A8-468C-9A5E-04E96A56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79AC-E55E-47B0-B309-39AF779B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0D3-8C49-4413-B115-E4B435CA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2A19-E3E6-4438-AF3A-588BF393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FBA2-E1B8-43BF-8FF4-D7813D34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D5C5-CD4E-46DA-B676-5A3E66AC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2170-5BFF-45C2-BC2A-915C115E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A851-20E3-4A16-A11F-72B2219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B852-AC44-43DA-B68D-EF12FFD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252E-3E6C-4E9B-925E-3B5B7B4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16C5-6805-4032-8467-113A382F4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78A-D827-4E0C-B234-6BA6CECE8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tribut" TargetMode="External"/><Relationship Id="rId2" Type="http://schemas.openxmlformats.org/officeDocument/2006/relationships/hyperlink" Target="http://ro.wikipedia.org/wiki/Pronume" TargetMode="External"/><Relationship Id="rId3" Type="http://schemas.openxmlformats.org/officeDocument/2006/relationships/hyperlink" Target="http://ro.wikipedia.org/wiki/Caz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rlin Sans FB Demi"/>
              </a:rPr>
              <a:t>Atributul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4876920"/>
            <a:ext cx="708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lin Sans FB Demi"/>
              </a:rPr>
              <a:t>Atributul pronominal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ribut pronomin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te un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trib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primat printr-un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ronu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sonal, reflexiv, posesiv, demonstrativ. Pronumele poate fi în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azuri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ominativ (apoziţional), genitiv (genitival), dativ sau acuzativ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685800"/>
            <a:ext cx="7239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erlin Sans FB Demi"/>
              </a:rPr>
              <a:t>Definitia Atributului Pronominal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Atributul pronominal se exprima pri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atributul pronominal genitival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Cărţile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Berlin Sans FB Demi"/>
              </a:rPr>
              <a:t>lor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 se află pe banc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atribut pronominal apoziţ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Colegii,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Berlin Sans FB Demi"/>
              </a:rPr>
              <a:t>ei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, n-au fost de acord cu propunerea făcut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atribut pronominal în dativ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: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Berlin Sans FB Demi"/>
              </a:rPr>
              <a:t>Păru-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Berlin Sans FB Demi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Berlin Sans FB Demi"/>
              </a:rPr>
              <a:t> atingea pămân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oate isi au ros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oate sta in fata cuvantului determinat sau dupa aces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Nu se desparte prin virgula de cuvatul determin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ta in alt caz decat cuvantul determi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6094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Observatii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218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Atributul pronominal este de mai multe fel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Genitival, exprimat prin pronume in cazul 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ersonal : Suieram l-a ei chem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Demonstrativ: A ascultat sfatul acelu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osesiv: se mira de harnicia alor nost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repozitional, exprimat prin pronume cu prepozitie in cazul Ac sau 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ersonal: Osteni ca noi se mai gase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Reflexiv: Luda de sine nu miroase a b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osesiv: glas ca al meu nu se afla in noua hot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Demonstrativ: lupta impotriva acestora i-a secatuit pu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In cazul D, exprimat prin forma neaccentuata de D a pronumel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ersonal: Ochii ei albastri clipira sub lungile-I gene bala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Refrexiv: Niculaita si-a bagat banii in chim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2286000"/>
            <a:ext cx="885816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Acest proiect a fost realizat de eleva Stoian Alina clasa a VI-a B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282840" cy="2109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1904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48:35Z</dcterms:created>
  <dc:creator>ddd</dc:creator>
  <dc:description/>
  <dc:language>en-US</dc:language>
  <cp:lastModifiedBy>ddd</cp:lastModifiedBy>
  <dcterms:modified xsi:type="dcterms:W3CDTF">2011-05-10T20:37:53Z</dcterms:modified>
  <cp:revision>3</cp:revision>
  <dc:subject/>
  <dc:title>Atributul</dc:title>
</cp:coreProperties>
</file>